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F2F0-A9B6-4331-9C0D-91D9B97B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9D7B-41C8-4B56-850E-E1CF4839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96F4-DC5C-466C-9C79-403C6F7D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8ABF-F650-49BD-B11D-6F8C8AA0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574E-F229-4BD0-AB91-05C27E2F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98CC-020C-41C9-8D1E-641AADA6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A99A-3E26-43BB-9330-FF9E4CBB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D04C-C6FF-4048-914F-47B15578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6BBC-F254-4391-826B-0F7C5BA2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A72F-7437-4CFE-8860-D1BDB091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35F6-3074-46F6-B32C-8B031BCA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5F2D-8414-438E-B256-58293BE8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B716-02B2-41F8-891F-B941E0B1418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4437000"/>
            <a:ext cx="5486400" cy="242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200" spc="-1" strike="noStrike">
                <a:solidFill>
                  <a:srgbClr val="000000"/>
                </a:solidFill>
                <a:latin typeface="Tahoma"/>
                <a:cs typeface="Ruqah2 Normal"/>
              </a:rPr>
              <a:t>لتقم صلات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840" y="5524560"/>
            <a:ext cx="9074160" cy="142524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373720"/>
            <a:ext cx="914400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ربِّ إليكَ صرختُ، أسْرِعْ إليَّ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221440"/>
            <a:ext cx="8013600" cy="50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صِخْ لصوتي حينَ أصرُخُ إليكَ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95640" y="2060640"/>
            <a:ext cx="46483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تُقَمْ صلاتي كالبخورِ أمامَك ورفعُ كفيَّ كتقدمةِ الـمساء. 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5415120"/>
            <a:ext cx="8137440" cy="149868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4683240"/>
            <a:ext cx="84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4683240"/>
            <a:ext cx="84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43708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جعلْ يا ربِّ حارساً لفمي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5148360"/>
            <a:ext cx="600228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قيباً على بابِ شفتيَّ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95640" y="2060640"/>
            <a:ext cx="46483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تُقَمْ صلاتي كالبخورِ أمامَك ورفعُ كفيَّ كتقدمةِ الـمساء. 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415120"/>
            <a:ext cx="9144000" cy="149868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275440"/>
            <a:ext cx="899172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ا تُمل قلبي إلى أمر السوء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5516640"/>
            <a:ext cx="8991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الانغماس في جرائم النفاق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707080"/>
            <a:ext cx="8991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ع الرجال الفاعلين الإثم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491080"/>
            <a:ext cx="9144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اشى لي أن آكل من مستلذاتهم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6:25:29Z</dcterms:created>
  <dc:creator>Charbel Azar</dc:creator>
  <dc:description/>
  <dc:language>en-US</dc:language>
  <cp:lastModifiedBy>-</cp:lastModifiedBy>
  <dcterms:modified xsi:type="dcterms:W3CDTF">2002-12-21T12:03:15Z</dcterms:modified>
  <cp:revision>6</cp:revision>
  <dc:subject/>
  <dc:title>PowerPoint Presentation</dc:title>
</cp:coreProperties>
</file>